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5.jpeg" ContentType="image/jpeg"/>
  <Override PartName="/ppt/media/image4.jpeg" ContentType="image/jpeg"/>
  <Override PartName="/ppt/media/elephant.wav" ContentType="audio/x-wav"/>
  <Override PartName="/ppt/media/image2.jpeg" ContentType="image/jpeg"/>
  <Override PartName="/ppt/media/image20.png" ContentType="image/png"/>
  <Override PartName="/ppt/media/image7.jpeg" ContentType="image/jpeg"/>
  <Override PartName="/ppt/media/image6.jpeg" ContentType="image/jpeg"/>
  <Override PartName="/ppt/media/catgrowl.wav" ContentType="audio/x-wav"/>
  <Override PartName="/ppt/media/image9.jpeg" ContentType="image/jpeg"/>
  <Override PartName="/ppt/media/image24.png" ContentType="image/png"/>
  <Override PartName="/ppt/media/image11.jpeg" ContentType="image/jpeg"/>
  <Override PartName="/ppt/media/image3.jpeg" ContentType="image/jpeg"/>
  <Override PartName="/ppt/media/chomp.wav" ContentType="audio/x-wav"/>
  <Override PartName="/ppt/media/image1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buzzer.wav" ContentType="audio/x-wav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4BC6-AA33-43E1-878E-622D6DBF3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6463-C490-4B7B-A6B4-8F759D3790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DFA9-27AE-4546-B018-33D80A1884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89E3-B9F3-4B8D-BBC4-48249D9754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ABF1-C349-4ADD-8D50-DE350EF704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1FE2-7992-4FFC-BF41-3901579337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E29D-13F2-494D-AD0B-791236D68B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09BE-8649-4580-B433-53075F9205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17F8-1839-49F5-B5A4-C796A922DB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02B-237E-481E-8BBB-738431C5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8D4-01BC-40DE-AF41-6C5BDE6D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6D960-58FA-4530-B623-06554754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C0C16-B1ED-46CB-B38D-EA2EC22D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56144-A712-485F-A4D2-D578CAA0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B8824-FEE3-45BB-8FE4-8C866B46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DCDED-1F8B-42E6-B337-F1D7A7E5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A2DD3-91C8-4A9A-83EE-0FD2A06F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DB204-3D44-4469-B4F1-027E0DA0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154BE-C364-473E-87E6-B988E79D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68B7D-B08C-4432-B11B-520BCA43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6BBBF-B428-46C7-B147-151994FF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F84-CC52-4653-9DAB-4F20E714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1C5FB-67AC-472B-83BE-297D420C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6C1B6-DB11-49D4-9A89-7479FB6D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DA413-73A6-41EB-9F08-386DFBA34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9B522-F14A-478A-91CE-9DE8C8A8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C07DA-C1C0-4507-AD4C-B0AEA0F9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06668-AC32-4498-AB8C-FD8F14D7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F9C0E-E45E-4CB1-8002-3E64FBF0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F1874-B540-459A-91B3-BDE6E4FC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07A77-278E-4118-8B5D-E4FAFA48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C58A3-9042-4F5C-BF3D-5A0A48463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7D59-A97A-41AF-ADAB-4AF2A953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E602C-AE7A-4FB3-96EA-B0DA4FC0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74958-FE80-4D65-AAF7-2005E792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8700E-2ADF-4634-8DEF-A8A2BF3A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72940-5352-4AD6-9F2F-A8B51FBE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791CC-0E44-4151-9C5D-D0336DF3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F8509-08A0-4B43-BAB6-DAD3B026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9B1AC-5006-4A23-8C97-77DD6EBE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19606-8382-4227-ADC1-2CB47873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58CE9-C7B1-4A89-9705-C7FAF70C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BC978-D988-4556-838D-E333DAD2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6D0A3-53F2-4689-BB40-05A71B28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7137B-B091-4CD3-86DB-9102F7D7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93F8F-B555-4DD8-B5B6-9C7FB06A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1B91A-0166-46E6-B885-D413BAF6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BDAD8-3D68-4079-AF22-4DE056C2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CF366-FF70-44A2-85C8-C4E07675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CB7AE-9E0C-4D54-AE78-D35ECA77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F4DE3-3969-46CC-AC2A-2460BEEE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EE6D5-BB21-48A9-A380-778BA39B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25658-56AC-4745-BD90-A62142AF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6BF0E-A2CE-4306-8871-EF6E9868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79D7F-2063-428D-8D8B-97655EB7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242DA-54F4-44C7-816E-959A8AD4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90019-C684-410D-BF86-7D89FEFD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D1032-20B7-483E-A597-8E5A9120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A3F1A-2E90-4706-9309-A7D12812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7946E9-BFB0-4D27-B8DF-9EAB8BA4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45BE1-F470-4473-928C-BD955D9A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80614-BBA8-4925-BF67-8449C791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BAA10-B12D-4646-A158-97FEB58F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33714-4375-49BE-8CCA-7E5A7DD9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5941E-9ED8-4E99-BC17-2C6059B8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DF97B-7CB2-4765-8389-6252F253F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0E36E-4192-49D2-9192-93992106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309608-AAFF-4984-AF17-B6AC3CF2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81455-F4F0-42FD-B7F5-8FA491EE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C64A0-6B84-4352-B1E4-6CD1A7AB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C2A70-1172-42C8-9832-41B57CD9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9CBF0-83F9-4030-9C9E-A74DCFC7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33109-154A-477E-880F-261E931B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1E1B9-80EB-4618-A1EC-7F531D90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3343E-69DB-4724-8937-DF68C533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63BBD-4190-4637-9696-35786BBE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17C9D-3B60-461A-9701-C514CC69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D67FF-96B5-4733-8CC0-BA808BA4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C6815-5CB3-443D-BE76-8C9DB342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48612-C80A-4901-AE28-433A2EAB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AACC5-5AA6-4DD4-A85F-73688DE2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3FA47-C283-4195-BCA0-539BC441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7AE79-3724-4CD7-8FA2-DE9A43D0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63E34-893B-41FB-A9F6-C4DE5813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BCA24-D0FC-48C2-8989-00D1988E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1E62E-9D25-4096-BC84-09BE01E6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7BC94-0240-411F-8C71-285C784E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AB7D4-B37D-4CA7-95AF-ABF6C04B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4BE80-F654-4B63-9140-E61B72FC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6A0E1-0226-45E3-96F2-9DB3A8E1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1A1B0-FA01-4C29-9893-4E2F504F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2407B-B835-4155-9D05-827E3124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48E3A-4AA9-40D4-8662-F69E541D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81A80-B7B8-4158-858A-11ED0C39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4AC28D-6A5D-4D24-87A6-111A210B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CAB147-35FC-424D-B242-717F626C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76E3B-5171-4B38-BE3C-0C1DBA21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80669-53D7-4F84-933B-4F5659D6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87BDD1-207D-448F-B823-A5A2B036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EB7F32-746B-4943-B444-FE1ACC56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80AC54-662E-4E34-96AE-563CA1AB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7A6502-AB5A-4AF7-A290-37580B02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00DAC-5521-458A-8E7D-105D201C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84F1C-448D-43FB-9FE4-CE9BB0A9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B4E18-C137-4429-990A-91C4A23B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8D9BD8-E0E4-4ECC-9DEF-B69E2AAA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48C107-09E3-4797-BC32-4A142756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DCBE1F-1ED0-4E9C-9351-73D66E8B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B275E-31F9-44EA-A8EA-252CAF61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EB3790-251B-48A7-9B54-3F4F77CF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C85429-3E80-4052-ACBF-BF42BB6C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DC5C65-F421-462E-A2B2-41A832DD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809214-3AB9-4F45-9228-C6596473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B441-4F47-4E9D-A594-475DDF99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4DB577-A2C3-41E4-807D-9C5B961E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47382A-52B7-4676-8E72-E04CFB16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C15A01-CD7B-4B71-9C91-3BB7D029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F6DFB7-5962-45DC-8129-FB97885E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4662F0-4A7D-4024-8F70-28240804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FFBEA-6500-4DE7-BAE9-BE1D5F1C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CA9FE7-3631-43D3-85C6-D1F8204D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11E861-6654-47C0-9EDA-C334819A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0E600D-3E2C-46DB-864E-FF85D623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AEFCB9-915D-46A3-B1DF-D03F40DE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070F96-A044-4293-B43D-FC440C16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EC8EFB-D506-4D57-83CE-CA1F425A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A0B731-C1FD-48B5-AC01-E3CF9E03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729F7D-3D63-4A3C-802F-36127801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70B5A0-6A4B-45B7-AAFD-AF9DABA1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8D1209-56AA-4EB9-A633-EC63EC4EB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F3F140-AC56-42B8-A40B-A7ECDDF6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5E2616-6AC9-4D89-8348-F6A473C6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98C9B0-3370-4623-9AEF-B779549A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CA8C5-0C53-40CD-BD84-98AAAEC2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BC2382-F960-4F89-82BE-975CA6B3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DEE2A6-6535-40F1-BED9-30D6881F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775F16-42AE-4DA1-9144-7954367A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710AB6-1613-438B-970F-49CF9931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ECD170-E412-49F4-B969-8F18B04B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352559-0930-42A7-86C3-CCCF1B1F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8B9605-12A2-484B-A84B-610F485F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A10E14-60F1-4D68-890C-2DF5ACB4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BAA4F5-A332-45D5-B491-CB0587BB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72E63E-9309-46F6-A999-1F471EA6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45BE5A-393C-4FFD-862C-06AD2C47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24D673-4F49-421B-A927-531DF06B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9804F5-5A90-4F16-A5BE-2D0895F1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145EC1-BD05-4145-A68B-AC06F954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EC55AF-054C-4CE7-AD9F-DB49615E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F67D27-7CF7-4BDD-B34B-2AE78319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97A3A4-8A91-4D0D-931A-EE6F9569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83C8F5-3B18-4D65-A487-8E23A5CA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E7EA39-4AC6-4CC0-B904-7C0EB3E6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D70DF1-AA5E-43F3-B91E-B776FE4D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E5A8D3-2CDA-4D14-9C37-F0E60622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06A4C4-A8A3-40AD-B15B-FA24E020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A9E543-CA7C-43B9-B0EE-4EEAF1EB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06F7FD-F8EB-4516-9A77-29CA9D43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B27BFE-CFDE-4C00-B41B-628B8144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57D2F1-7E0D-43AD-9EBA-BEDB6CEA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A918C9-E95C-4A07-A3E8-566FA43C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5FED43-E042-4FB6-BCE1-1675A5FC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194F7C-779D-4A10-AE65-65963FBB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FF2CF8-9C7C-4D5F-B0AA-EED46B5A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C79A1F-E7A0-421C-935F-2CB0D865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8171AB-B9FC-4AE3-ADDD-69F8E670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D56AB8-515D-4C3F-B40B-BE6D0BE7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EC2788-2120-4DC0-B706-6DCA40E9D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3E9B85-BAAD-4222-AACE-F56A5B5C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74DD79-CCA2-4B88-9DC7-227D73EA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20701C-1FA7-4444-94EF-1451D31E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E65566-0304-45F8-9A22-892A93C7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D09896-20F1-4D8D-92C0-8B39059A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C5DB43-EFD0-4FD6-8AF6-645D0F61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A09E5A-835F-432C-BEEA-B398A062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D39AF4-DE12-49DF-9900-6B80F768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3BF2FB-DA02-4934-93F9-6BB8A4D8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DB5DCB-533F-4609-96FB-BB317427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BE2174-5DFF-4956-9DB7-C0493F62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3E82AA-EE46-42D4-B638-C2B4B5AD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D8AEC2-E8DD-472E-AC4B-084E4EC4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549E37-67C3-48C6-97D7-27190BF2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D240D6-01B9-4C93-A877-28CE1A1C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A29547-1836-475B-B9BD-30C45FBC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2CB427-DA91-43B4-A80F-6BFFEECB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522CF8-7F87-4732-818B-402CA5E9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CCC39D-64B9-4F1A-9E33-DB0E4FA8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14C751-D398-4A32-9D5A-070BE5E4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498F97-3E99-4AA7-BE3B-4E59E42B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4C7B52-8B71-49AC-9876-C5C7AFC4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523559-458E-4B24-B65B-4DCBE7AD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F34421-D7F8-4A3E-8FFF-FF135A89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8CE324-BAD0-4B9A-9C63-7EBD0F80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110C5B-0103-4833-A951-45F9D880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D9A21D-1EF8-4C29-BFB1-653258D2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D1E6A6-0E29-4778-A02B-62C5AE25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9A65B2-0B5C-44CB-AFA5-391B7AC8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972A35-C998-4F3D-8043-B7BB4E6B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51FCF8-D747-4642-9A5D-72302C12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935EC7-7C2B-4923-A28A-FBDF1BED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2D061B-E2AB-4038-9316-75A2F927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E55578-0D2A-4601-9CC9-3AEDB7516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BA0C11-96EC-4183-9D77-BBE58549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D79640-B8BC-4B8F-995F-1F21206AB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D96968-A49E-4585-92DB-F8759551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9AB4A7-65C1-4442-8E6A-08CF7261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45A139-3632-4D37-AE65-466AAC2BB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578148-C2D6-4650-83DE-E2BCCA5B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E0FE82-1195-499A-B084-F7143BBE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889030-FF72-475B-92F8-5FC7D8E1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A258A1-4C77-4C60-BBDB-9AD4F319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84A9E1-BF75-429F-B13E-BCD11883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1D4CEF-BFE7-4BE9-B30D-47B40374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35FB65-9B73-4A56-BB57-D5FFA9D1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1DB7-9433-436B-B9B1-47BC2649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ADA3FA-96C3-4660-8915-B7DACC5B0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820322-BEF6-4ABD-A963-0F8F315F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4CD45A-2B41-44B7-B2E5-695ED215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E3F866-D571-4071-8BB5-02148466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96ACAF-6388-4189-BB65-A8EA9219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459D1F-53DC-4182-AA7A-06CC5B29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BD6CAC8-F9D7-4526-8CE3-87ECE521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22BA02-C507-4E43-8089-1320FD2C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9D251E-6087-4919-8B3C-2D4E85A7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B0A339-7AF6-4588-94F0-DFC7B8BD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6287D2-B93A-47CC-AE90-796C01BB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096F56-6F81-441E-A02A-F93454CA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A1C460-78B5-49A5-9FDB-7D8D5632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85C39D-BCF0-47F4-8CD2-B3DD185C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6C5532-8166-4DB5-9207-989E3067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F35F98-6D30-4E8C-9CEF-721DE6BB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6D5AF3-252B-4064-9EC5-483D3D13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6EB3F7-653C-42C9-AD40-8259264F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B913E9-38F2-4BA9-96D8-76E638AD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B4F5B6-DC71-4EF9-90A3-268DAD65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651168-2052-4A59-AFD9-39F1DD6C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382C53-8590-42FA-85BC-13FC7611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D20029-9454-4529-8F23-6CFD5AAC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3FBB19-8D0A-487B-8B1B-9FAEA8B4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2FFA37-C7B5-4249-B31E-DF930782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74E-B370-486B-B77C-8E75DD19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1D3A-2EC6-4F40-9EF0-DF7928E3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BE77-4189-4308-A638-9B1C04F4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F2E87-7A42-45A3-B7EC-165E129D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6FFF-934A-4769-9306-EA9574EE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BAE1-AB35-449C-972C-FDA681C6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6D17-7240-44F9-A52A-5824DB97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B52E-9270-487F-A632-483C09E9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529E-7BA8-416D-84B7-BE72C99C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554C-10C2-4782-818A-46564AB8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5E27-F24E-4239-99A2-367F7F31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3579-DFFD-405F-AA94-DBC200CB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5855-AC91-4976-9F20-825EE7D6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B6BB-D1C4-4CB0-8EC7-D4C68D76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99FE-2D3C-464B-83E9-772E1AA3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2B619-6083-48F2-8FFD-B39B25BA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AF64F-9ECF-40D2-B91A-FE75C2A3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84742-A5D5-4724-BDCC-0B2852E3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B3116-AB7A-42FE-85AE-544758D2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0DE4E-6F7C-48B1-B33F-7917A6D2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8553F-3183-4B72-A358-10C923F84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95FBE-98C4-47FC-9DB6-DB6D8307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CB1AD-8AF0-46E8-8813-3A944315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DBB8A-195C-4124-9D12-091333D5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C28-3E55-4B20-8F43-C56EC7CF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EBAE7-AB11-43CC-8D5A-BA10A26F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B2B2E-F2DF-41E7-892D-256C3B5BE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19C92-D076-44A6-B325-075F7F92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E55F9-C52B-4FD1-B890-4B18D1C6C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A3370-956D-4108-B7C9-F32A06E1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CA0A1-4BEA-4C62-AE05-3A22E96E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66036-8858-4EE8-9F84-D4CD234B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E4447-ED22-47C7-A7A7-0C29081D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4E8AA-B43E-4F6A-81A5-B2848ABD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FB42E-4636-41DD-AFC2-27FC32F6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F90D-D7EC-4B65-8A94-12E1E5D7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D4267-0702-4CEA-B87E-699E5EBD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BB349-C648-48AA-A475-A848A910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9A52B-4DBB-47D5-B4B3-FBF1136B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7D3C8-3A93-4A44-8A6F-99CB8660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49287-91B5-4160-8998-EC4FF0D4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28CA7-3321-41D0-B146-75C21310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7E75E-F986-4AAD-8FED-FAC041EF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70199-3CE0-426F-AA69-745EB226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11E15-A282-4A89-B6A8-7F11771B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694AD-6CDB-4C8C-8CE9-1BB006C1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66A-0D78-4CBE-B4CB-83E31C44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23412-18D5-49D2-9EF7-DCF95902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48C70-FDB6-446D-88C2-FA2BE32A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DBEF7-4031-4D55-91D9-73E195D1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8AE97-2C5F-48EE-A9E2-5A01B189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F411A-10A7-4F42-BF6F-AEE1B9A7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E57A3-E5BE-4A21-A145-126D6562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B40F3-B0AE-4C24-A367-3A83AD70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FB854-9353-4442-8259-C12061CD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41589-6BA9-471D-9F57-49D85035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6C96A-12CF-42B3-AF9F-43F9BB84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1CC5-7F81-4088-BD78-EBD01D9B0FE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8BFD-D37B-4460-9B6D-DAC4194AA1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EB47-997E-47FE-82F7-789C6580955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6794-6444-4A92-80B0-4740C246D3F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CAE3-4B33-44D3-9A22-6789B82CA84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4FCC-22C5-45FE-A0C5-43A396480EE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28F5-5FF9-4E15-8073-4DC46D8E6B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711A-E2BA-4BDA-8C90-C0CA8B6EAB3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5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75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6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6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7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7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1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2092-C841-4EC6-BF1A-C62D1D7A15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2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2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3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3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4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4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2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E8CD-1D1B-4466-AC5E-3A4032C365D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9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9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0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0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1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1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9DEC-7AD3-4B90-AD4B-2305A19413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6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6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7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7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8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9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4" name="PlaceHolder 1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F050-67BA-4BF0-9814-DBBC76E66AE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3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3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4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4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5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6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5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5CB1-ECE9-4C93-B745-AD5BB3F146A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0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0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1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1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2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6" name="PlaceHolder 1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3419-F4A2-4646-A64D-E67F2D1FC9E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7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8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8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9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9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0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7" name="PlaceHolder 1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8355-1BE0-4B22-86F8-C9A026B32B2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4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5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5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6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6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7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87C6-612F-4FD0-B7E1-D6506E7DB1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1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2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2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3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3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4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9" name="PlaceHolder 1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5869-5AC1-45A7-8A29-388A22ED295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9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9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9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0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0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1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0" name="PlaceHolder 1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8E5D-A333-417E-97AC-66E3DA40E3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46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46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7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7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8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8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1" name="PlaceHolder 1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DE2C-FCEA-47AA-A6A4-F40BE97234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5F25-FB7B-45D5-841B-0EF90DD9D0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B43E5-9EB5-404D-A09A-039C11279B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8145-B251-4210-9678-193D70EDCAD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BE49-CDEF-4D86-AD8C-C18F57E7C5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5D7C-BA8E-47E6-970C-BB82CB69F5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audio" Target="../media/buzzer.wav"/><Relationship Id="rId9" Type="http://schemas.openxmlformats.org/officeDocument/2006/relationships/audio" Target="../media/buzzer.wav"/><Relationship Id="rId10" Type="http://schemas.openxmlformats.org/officeDocument/2006/relationships/audio" Target="../media/buzzer.wav"/><Relationship Id="rId11" Type="http://schemas.openxmlformats.org/officeDocument/2006/relationships/audio" Target="../media/buzzer.wav"/><Relationship Id="rId12" Type="http://schemas.openxmlformats.org/officeDocument/2006/relationships/audio" Target="../media/buzzer.wav"/><Relationship Id="rId13" Type="http://schemas.openxmlformats.org/officeDocument/2006/relationships/audio" Target="../media/buzzer.wav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atgrowl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audio" Target="../media/elephant.wav"/><Relationship Id="rId5" Type="http://schemas.openxmlformats.org/officeDocument/2006/relationships/audio" Target="../media/elephant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9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540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4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3" name="Picture 10" descr="shrimp.jpg"/>
          <p:cNvPicPr/>
          <p:nvPr/>
        </p:nvPicPr>
        <p:blipFill>
          <a:blip r:embed="rId1"/>
          <a:stretch/>
        </p:blipFill>
        <p:spPr>
          <a:xfrm>
            <a:off x="6400800" y="5410080"/>
            <a:ext cx="1285920" cy="1204920"/>
          </a:xfrm>
          <a:prstGeom prst="rect">
            <a:avLst/>
          </a:prstGeom>
          <a:ln w="0">
            <a:noFill/>
          </a:ln>
        </p:spPr>
      </p:pic>
      <p:pic>
        <p:nvPicPr>
          <p:cNvPr id="1574" name="Picture 9" descr="steak.jpg"/>
          <p:cNvPicPr/>
          <p:nvPr/>
        </p:nvPicPr>
        <p:blipFill>
          <a:blip r:embed="rId2"/>
          <a:stretch/>
        </p:blipFill>
        <p:spPr>
          <a:xfrm>
            <a:off x="5410080" y="4267080"/>
            <a:ext cx="1330560" cy="1016280"/>
          </a:xfrm>
          <a:prstGeom prst="rect">
            <a:avLst/>
          </a:prstGeom>
          <a:ln w="0">
            <a:noFill/>
          </a:ln>
        </p:spPr>
      </p:pic>
      <p:pic>
        <p:nvPicPr>
          <p:cNvPr id="1575" name="Picture 6" descr="ribs.jpg"/>
          <p:cNvPicPr/>
          <p:nvPr/>
        </p:nvPicPr>
        <p:blipFill>
          <a:blip r:embed="rId3"/>
          <a:stretch/>
        </p:blipFill>
        <p:spPr>
          <a:xfrm>
            <a:off x="1380960" y="5562720"/>
            <a:ext cx="1381320" cy="990360"/>
          </a:xfrm>
          <a:prstGeom prst="rect">
            <a:avLst/>
          </a:prstGeom>
          <a:ln w="0">
            <a:noFill/>
          </a:ln>
        </p:spPr>
      </p:pic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2100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 this situation, no matter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how many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 nouns you join with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the subject is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till</a:t>
            </a:r>
            <a:r>
              <a:rPr b="0" lang="en-US" sz="28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ingular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ubTitle"/>
          </p:nvPr>
        </p:nvSpPr>
        <p:spPr>
          <a:xfrm>
            <a:off x="457200" y="2514600"/>
            <a:ext cx="8153280" cy="1371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Autofit/>
          </a:bodyPr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icken wing, pork rib, slice of pepperoni pizza, hotdog, hamburger, steak,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ied shrimp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sit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ntouched on Ruth’s plat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8" name="Picture 3" descr="vegetarian.jpg"/>
          <p:cNvPicPr/>
          <p:nvPr/>
        </p:nvPicPr>
        <p:blipFill>
          <a:blip r:embed="rId4"/>
          <a:stretch/>
        </p:blipFill>
        <p:spPr>
          <a:xfrm>
            <a:off x="3733920" y="4038480"/>
            <a:ext cx="1536480" cy="2819520"/>
          </a:xfrm>
          <a:prstGeom prst="rect">
            <a:avLst/>
          </a:prstGeom>
          <a:ln w="0">
            <a:noFill/>
          </a:ln>
        </p:spPr>
      </p:pic>
      <p:pic>
        <p:nvPicPr>
          <p:cNvPr id="1579" name="Picture 5" descr="wings.jpg"/>
          <p:cNvPicPr/>
          <p:nvPr/>
        </p:nvPicPr>
        <p:blipFill>
          <a:blip r:embed="rId5"/>
          <a:stretch/>
        </p:blipFill>
        <p:spPr>
          <a:xfrm>
            <a:off x="441360" y="4191120"/>
            <a:ext cx="1219320" cy="1143000"/>
          </a:xfrm>
          <a:prstGeom prst="rect">
            <a:avLst/>
          </a:prstGeom>
          <a:ln w="0">
            <a:noFill/>
          </a:ln>
        </p:spPr>
      </p:pic>
      <p:pic>
        <p:nvPicPr>
          <p:cNvPr id="1580" name="Picture 7" descr="pizza.jpg"/>
          <p:cNvPicPr/>
          <p:nvPr/>
        </p:nvPicPr>
        <p:blipFill>
          <a:blip r:embed="rId6"/>
          <a:stretch/>
        </p:blipFill>
        <p:spPr>
          <a:xfrm>
            <a:off x="2286000" y="4343400"/>
            <a:ext cx="1238400" cy="888840"/>
          </a:xfrm>
          <a:prstGeom prst="rect">
            <a:avLst/>
          </a:prstGeom>
          <a:ln w="0">
            <a:noFill/>
          </a:ln>
        </p:spPr>
      </p:pic>
      <p:pic>
        <p:nvPicPr>
          <p:cNvPr id="1581" name="Picture 8" descr="hotdog.jpg"/>
          <p:cNvPicPr/>
          <p:nvPr/>
        </p:nvPicPr>
        <p:blipFill>
          <a:blip r:embed="rId7"/>
          <a:stretch/>
        </p:blipFill>
        <p:spPr>
          <a:xfrm>
            <a:off x="7315200" y="4267080"/>
            <a:ext cx="1341360" cy="990720"/>
          </a:xfrm>
          <a:prstGeom prst="rect">
            <a:avLst/>
          </a:prstGeom>
          <a:ln w="0">
            <a:noFill/>
          </a:ln>
        </p:spPr>
      </p:pic>
      <p:sp>
        <p:nvSpPr>
          <p:cNvPr id="1582" name="TextBox 12"/>
          <p:cNvSpPr/>
          <p:nvPr/>
        </p:nvSpPr>
        <p:spPr>
          <a:xfrm>
            <a:off x="304920" y="4267080"/>
            <a:ext cx="1447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TextBox 13"/>
          <p:cNvSpPr/>
          <p:nvPr/>
        </p:nvSpPr>
        <p:spPr>
          <a:xfrm>
            <a:off x="1371600" y="56386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TextBox 14"/>
          <p:cNvSpPr/>
          <p:nvPr/>
        </p:nvSpPr>
        <p:spPr>
          <a:xfrm>
            <a:off x="2209680" y="434340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TextBox 15"/>
          <p:cNvSpPr/>
          <p:nvPr/>
        </p:nvSpPr>
        <p:spPr>
          <a:xfrm>
            <a:off x="7238880" y="426708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TextBox 16"/>
          <p:cNvSpPr/>
          <p:nvPr/>
        </p:nvSpPr>
        <p:spPr>
          <a:xfrm>
            <a:off x="5334120" y="4343400"/>
            <a:ext cx="1447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TextBox 17"/>
          <p:cNvSpPr/>
          <p:nvPr/>
        </p:nvSpPr>
        <p:spPr>
          <a:xfrm>
            <a:off x="6324480" y="548640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8" name="Rounded Rectangular Callout 4"/>
          <p:cNvSpPr/>
          <p:nvPr/>
        </p:nvSpPr>
        <p:spPr>
          <a:xfrm>
            <a:off x="5867280" y="4343400"/>
            <a:ext cx="2438640" cy="1447920"/>
          </a:xfrm>
          <a:prstGeom prst="wedgeRoundRectCallout">
            <a:avLst>
              <a:gd name="adj1" fmla="val -100300"/>
              <a:gd name="adj2" fmla="val -4190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’m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vegetaria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4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91" dur="2000" fill="hold"/>
                                        <p:tgtEl>
                                          <p:spTgt spid="15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7" dur="20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03" dur="2000" fill="hold"/>
                                        <p:tgtEl>
                                          <p:spTgt spid="15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" dur="2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15" dur="2000" fill="hold"/>
                                        <p:tgtEl>
                                          <p:spTgt spid="1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1" dur="2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15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3" dur="2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39" dur="2000" fill="hold"/>
                                        <p:tgtEl>
                                          <p:spTgt spid="15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5" dur="2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15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caution with these three conjunctions: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ither … o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neither … no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and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not only … but also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0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employee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boss wish the shift would e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Text Box 1038"/>
          <p:cNvSpPr/>
          <p:nvPr/>
        </p:nvSpPr>
        <p:spPr>
          <a:xfrm>
            <a:off x="1143000" y="2438280"/>
            <a:ext cx="68580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employees but also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ir bos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wishe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hift would e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Text Box 1037"/>
          <p:cNvSpPr/>
          <p:nvPr/>
        </p:nvSpPr>
        <p:spPr>
          <a:xfrm>
            <a:off x="1143000" y="2438280"/>
            <a:ext cx="6858000" cy="1447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only the boss but also her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mploye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wish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hift would e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3" name="Picture 7" descr="twohands.jpg"/>
          <p:cNvPicPr/>
          <p:nvPr/>
        </p:nvPicPr>
        <p:blipFill>
          <a:blip r:embed="rId1"/>
          <a:stretch/>
        </p:blipFill>
        <p:spPr>
          <a:xfrm>
            <a:off x="6189840" y="3429000"/>
            <a:ext cx="1906560" cy="3276720"/>
          </a:xfrm>
          <a:prstGeom prst="rect">
            <a:avLst/>
          </a:prstGeom>
          <a:ln w="0">
            <a:noFill/>
          </a:ln>
        </p:spPr>
      </p:pic>
      <p:sp>
        <p:nvSpPr>
          <p:cNvPr id="1594" name="Rounded Rectangular Callout 6"/>
          <p:cNvSpPr/>
          <p:nvPr/>
        </p:nvSpPr>
        <p:spPr>
          <a:xfrm>
            <a:off x="762120" y="4800600"/>
            <a:ext cx="4495680" cy="1752480"/>
          </a:xfrm>
          <a:prstGeom prst="wedgeRoundRectCallout">
            <a:avLst>
              <a:gd name="adj1" fmla="val 81087"/>
              <a:gd name="adj2" fmla="val -7317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’ll hav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w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jects, but only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los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cas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boss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oun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Rounded Rectangular Callout 9"/>
          <p:cNvSpPr/>
          <p:nvPr/>
        </p:nvSpPr>
        <p:spPr>
          <a:xfrm>
            <a:off x="762120" y="4800600"/>
            <a:ext cx="4495680" cy="1752480"/>
          </a:xfrm>
          <a:prstGeom prst="wedgeRoundRectCallout">
            <a:avLst>
              <a:gd name="adj1" fmla="val 81087"/>
              <a:gd name="adj2" fmla="val -7317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fl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wo subjects, so t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employ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next to the verb, the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wis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ll work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6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851"/>
                            </p:stCondLst>
                            <p:childTnLst>
                              <p:par>
                                <p:cTn id="2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4351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2163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s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indefinite pronouns</a:t>
            </a:r>
            <a:r>
              <a:rPr b="0" lang="en-US" sz="3200" spc="-1" strike="noStrike">
                <a:solidFill>
                  <a:srgbClr val="ffc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re always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i="1" lang="en-US" sz="3200" spc="-1" strike="noStrike">
                <a:solidFill>
                  <a:srgbClr val="c0504d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[even when the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eem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lural]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7925040" cy="31244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ach, either, neith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yone, anybody, anything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veryone, everybody, every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one, nobody, no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79600" indent="-351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meone, somebody, some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8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761"/>
                            </p:stCondLst>
                            <p:childTnLst>
                              <p:par>
                                <p:cTn id="3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302"/>
                            </p:stCondLst>
                            <p:childTnLst>
                              <p:par>
                                <p:cTn id="30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263"/>
                            </p:stCondLst>
                            <p:childTnLst>
                              <p:par>
                                <p:cTn id="31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6594"/>
                            </p:stCondLst>
                            <p:childTnLst>
                              <p:par>
                                <p:cTn id="3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Picture 3" descr="worldgirl.jpg"/>
          <p:cNvPicPr/>
          <p:nvPr/>
        </p:nvPicPr>
        <p:blipFill>
          <a:blip r:embed="rId1"/>
          <a:stretch/>
        </p:blipFill>
        <p:spPr>
          <a:xfrm>
            <a:off x="6781680" y="76320"/>
            <a:ext cx="2251080" cy="304776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3" descr="earth.jpg"/>
          <p:cNvPicPr/>
          <p:nvPr/>
        </p:nvPicPr>
        <p:blipFill>
          <a:blip r:embed="rId2"/>
          <a:stretch/>
        </p:blipFill>
        <p:spPr>
          <a:xfrm>
            <a:off x="2133720" y="1619280"/>
            <a:ext cx="4876560" cy="4705200"/>
          </a:xfrm>
          <a:prstGeom prst="rect">
            <a:avLst/>
          </a:prstGeom>
          <a:ln w="0">
            <a:noFill/>
          </a:ln>
        </p:spPr>
      </p:pic>
      <p:sp>
        <p:nvSpPr>
          <p:cNvPr id="1600" name="Rounded Rectangular Callout 4"/>
          <p:cNvSpPr/>
          <p:nvPr/>
        </p:nvSpPr>
        <p:spPr>
          <a:xfrm>
            <a:off x="685800" y="304920"/>
            <a:ext cx="3352680" cy="2286000"/>
          </a:xfrm>
          <a:prstGeom prst="wedgeRoundRectCallout">
            <a:avLst>
              <a:gd name="adj1" fmla="val 124740"/>
              <a:gd name="adj2" fmla="val -3054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Everyo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Earth =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more th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e person—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bill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people, in fac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word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every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however, is stil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ingu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" dur="2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Rectangle 3"/>
          <p:cNvSpPr/>
          <p:nvPr/>
        </p:nvSpPr>
        <p:spPr>
          <a:xfrm>
            <a:off x="1295280" y="3276720"/>
            <a:ext cx="6553440" cy="1295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t">
            <a:noAutofit/>
          </a:bodyPr>
          <a:p>
            <a:pPr marL="3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quirrel as well as the pigeons keep an eye on Sammy, the sneaky c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Beware interrupting phrases.</a:t>
            </a:r>
            <a:endParaRPr b="1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838080" y="1599840"/>
            <a:ext cx="32767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 well 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ong wi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gether wit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5257440" y="1599840"/>
            <a:ext cx="3048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clud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 addition to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speciall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05" name="Picture 12" descr="squirrel.jpg"/>
          <p:cNvPicPr/>
          <p:nvPr/>
        </p:nvPicPr>
        <p:blipFill>
          <a:blip r:embed="rId1"/>
          <a:stretch/>
        </p:blipFill>
        <p:spPr>
          <a:xfrm>
            <a:off x="457200" y="4800600"/>
            <a:ext cx="1293840" cy="2057400"/>
          </a:xfrm>
          <a:prstGeom prst="rect">
            <a:avLst/>
          </a:prstGeom>
          <a:ln w="0">
            <a:noFill/>
          </a:ln>
        </p:spPr>
      </p:pic>
      <p:sp>
        <p:nvSpPr>
          <p:cNvPr id="1606" name="Rounded Rectangular Callout 13"/>
          <p:cNvSpPr/>
          <p:nvPr/>
        </p:nvSpPr>
        <p:spPr>
          <a:xfrm>
            <a:off x="2209680" y="5334120"/>
            <a:ext cx="1371600" cy="1066680"/>
          </a:xfrm>
          <a:prstGeom prst="wedgeRoundRectCallout">
            <a:avLst>
              <a:gd name="adj1" fmla="val -84310"/>
              <a:gd name="adj2" fmla="val -398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kitt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7" name="Picture 9" descr="point.jpg"/>
          <p:cNvPicPr/>
          <p:nvPr/>
        </p:nvPicPr>
        <p:blipFill>
          <a:blip r:embed="rId2"/>
          <a:stretch/>
        </p:blipFill>
        <p:spPr>
          <a:xfrm>
            <a:off x="8005680" y="2666880"/>
            <a:ext cx="1138320" cy="4191120"/>
          </a:xfrm>
          <a:prstGeom prst="rect">
            <a:avLst/>
          </a:prstGeom>
          <a:ln w="0">
            <a:noFill/>
          </a:ln>
        </p:spPr>
      </p:pic>
      <p:pic>
        <p:nvPicPr>
          <p:cNvPr id="1608" name="Rectangle 3" descr=""/>
          <p:cNvPicPr/>
          <p:nvPr/>
        </p:nvPicPr>
        <p:blipFill>
          <a:blip r:embed="rId3"/>
          <a:stretch/>
        </p:blipFill>
        <p:spPr>
          <a:xfrm>
            <a:off x="1298520" y="3279600"/>
            <a:ext cx="6607080" cy="1292400"/>
          </a:xfrm>
          <a:prstGeom prst="rect">
            <a:avLst/>
          </a:prstGeom>
          <a:ln w="0">
            <a:noFill/>
          </a:ln>
        </p:spPr>
      </p:pic>
      <p:pic>
        <p:nvPicPr>
          <p:cNvPr id="1609" name="Rectangle 3" descr=""/>
          <p:cNvPicPr/>
          <p:nvPr/>
        </p:nvPicPr>
        <p:blipFill>
          <a:blip r:embed="rId4"/>
          <a:stretch/>
        </p:blipFill>
        <p:spPr>
          <a:xfrm>
            <a:off x="1298520" y="3279600"/>
            <a:ext cx="6553080" cy="1292400"/>
          </a:xfrm>
          <a:prstGeom prst="rect">
            <a:avLst/>
          </a:prstGeom>
          <a:ln w="0">
            <a:noFill/>
          </a:ln>
        </p:spPr>
      </p:pic>
      <p:sp>
        <p:nvSpPr>
          <p:cNvPr id="1610" name="Rounded Rectangular Callout 6"/>
          <p:cNvSpPr/>
          <p:nvPr/>
        </p:nvSpPr>
        <p:spPr>
          <a:xfrm>
            <a:off x="4495680" y="5105520"/>
            <a:ext cx="3353040" cy="1523880"/>
          </a:xfrm>
          <a:prstGeom prst="wedgeRoundRectCallout">
            <a:avLst>
              <a:gd name="adj1" fmla="val 54384"/>
              <a:gd name="adj2" fmla="val -11731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entence migh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ou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, but it is completel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wron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0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1" name="Picture 11" descr="okay.jpg"/>
          <p:cNvPicPr/>
          <p:nvPr/>
        </p:nvPicPr>
        <p:blipFill>
          <a:blip r:embed="rId1"/>
          <a:stretch/>
        </p:blipFill>
        <p:spPr>
          <a:xfrm>
            <a:off x="3352680" y="3124080"/>
            <a:ext cx="2122560" cy="3733920"/>
          </a:xfrm>
          <a:prstGeom prst="rect">
            <a:avLst/>
          </a:prstGeom>
          <a:ln w="0">
            <a:noFill/>
          </a:ln>
        </p:spPr>
      </p:pic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0969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eware inverted word order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3" name="Rectangle 4"/>
          <p:cNvSpPr/>
          <p:nvPr/>
        </p:nvSpPr>
        <p:spPr>
          <a:xfrm>
            <a:off x="533520" y="1523880"/>
            <a:ext cx="807696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is the onions you need for the chili. In the refrigerator is the jalapeño peppers you might want to ad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Rounded Rectangular Callout 8"/>
          <p:cNvSpPr/>
          <p:nvPr/>
        </p:nvSpPr>
        <p:spPr>
          <a:xfrm>
            <a:off x="5791320" y="3962520"/>
            <a:ext cx="2971800" cy="2057400"/>
          </a:xfrm>
          <a:prstGeom prst="wedgeRoundRectCallout">
            <a:avLst>
              <a:gd name="adj1" fmla="val -83041"/>
              <a:gd name="adj2" fmla="val -3373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through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prepositional phra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ind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re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Rounded Rectangular Callout 9"/>
          <p:cNvSpPr/>
          <p:nvPr/>
        </p:nvSpPr>
        <p:spPr>
          <a:xfrm>
            <a:off x="304920" y="4114800"/>
            <a:ext cx="2209680" cy="1828800"/>
          </a:xfrm>
          <a:prstGeom prst="wedgeRoundRectCallout">
            <a:avLst>
              <a:gd name="adj1" fmla="val 86490"/>
              <a:gd name="adj2" fmla="val -3477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the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ne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6" name="Rectangle 4" descr=""/>
          <p:cNvPicPr/>
          <p:nvPr/>
        </p:nvPicPr>
        <p:blipFill>
          <a:blip r:embed="rId2"/>
          <a:stretch/>
        </p:blipFill>
        <p:spPr>
          <a:xfrm>
            <a:off x="536400" y="1523880"/>
            <a:ext cx="8077320" cy="1627200"/>
          </a:xfrm>
          <a:prstGeom prst="rect">
            <a:avLst/>
          </a:prstGeom>
          <a:ln w="0">
            <a:noFill/>
          </a:ln>
        </p:spPr>
      </p:pic>
      <p:pic>
        <p:nvPicPr>
          <p:cNvPr id="1617" name="Rectangle 4" descr=""/>
          <p:cNvPicPr/>
          <p:nvPr/>
        </p:nvPicPr>
        <p:blipFill>
          <a:blip r:embed="rId3"/>
          <a:stretch/>
        </p:blipFill>
        <p:spPr>
          <a:xfrm>
            <a:off x="536400" y="1523880"/>
            <a:ext cx="80773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9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9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0" name="Picture 7" descr="urbangirl.jpg"/>
          <p:cNvPicPr/>
          <p:nvPr/>
        </p:nvPicPr>
        <p:blipFill>
          <a:blip r:embed="rId1"/>
          <a:stretch/>
        </p:blipFill>
        <p:spPr>
          <a:xfrm>
            <a:off x="6248520" y="3581280"/>
            <a:ext cx="1744560" cy="3124440"/>
          </a:xfrm>
          <a:prstGeom prst="rect">
            <a:avLst/>
          </a:prstGeom>
          <a:ln w="0">
            <a:noFill/>
          </a:ln>
        </p:spPr>
      </p:pic>
      <p:sp>
        <p:nvSpPr>
          <p:cNvPr id="1621" name="Rounded Rectangular Callout 6"/>
          <p:cNvSpPr/>
          <p:nvPr/>
        </p:nvSpPr>
        <p:spPr>
          <a:xfrm>
            <a:off x="2514600" y="4495680"/>
            <a:ext cx="2133720" cy="1752840"/>
          </a:xfrm>
          <a:prstGeom prst="wedgeRoundRectCallout">
            <a:avLst>
              <a:gd name="adj1" fmla="val 146777"/>
              <a:gd name="adj2" fmla="val -3466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9451"/>
                            </p:stCondLst>
                            <p:childTnLst>
                              <p:par>
                                <p:cTn id="4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951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3" name="TextBox 3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the cabinet is the tools that you will ne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og the bathroom sink; I have found that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unger and a prayer often do the tri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TextBox 7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the cabine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ols that you will ne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og the bathroom sink; I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nd that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unger and a prayer oft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ri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TextBox 8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the cabine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ols that you will ne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clog the bathroom sink; I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nd that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unger and a prayer oft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ri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1" dur="500"/>
                                        <p:tgtEl>
                                          <p:spTgt spid="1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7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e are the books that Thomas and Darlen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for their research, and here is the earplu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you’ll require once they both doze off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redom and start sno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books that Thomas and Darlen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for their research, and 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earplu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you’ll require once they bo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ff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redom and start sno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r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books that Thomas and Darlen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for their research, and her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earplug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at you’ll require once they both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o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ff 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redom and start snor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0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1" name="TextBox 3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and Rodney have decided to double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 of cupcakes that they are baking si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love moist cake and chocolate fro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TextBox 7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and Rodn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ecided to double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 of cupcakes that th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aking si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o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ist cake and chocolate fro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TextBox 8"/>
          <p:cNvSpPr/>
          <p:nvPr/>
        </p:nvSpPr>
        <p:spPr>
          <a:xfrm>
            <a:off x="380880" y="160020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and Rodn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ecided to double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umber of cupcakes that th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aking si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lov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ist cake and chocolate fros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o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9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1" name="Picture 5" descr="dunno.jpg"/>
          <p:cNvPicPr/>
          <p:nvPr/>
        </p:nvPicPr>
        <p:blipFill>
          <a:blip r:embed="rId1"/>
          <a:stretch/>
        </p:blipFill>
        <p:spPr>
          <a:xfrm>
            <a:off x="2209680" y="2133720"/>
            <a:ext cx="4392720" cy="4425840"/>
          </a:xfrm>
          <a:prstGeom prst="rect">
            <a:avLst/>
          </a:prstGeom>
          <a:ln w="0">
            <a:noFill/>
          </a:ln>
        </p:spPr>
      </p:pic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bject-Verb Agreemen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3" name="Rounded Rectangular Callout 7"/>
          <p:cNvSpPr/>
          <p:nvPr/>
        </p:nvSpPr>
        <p:spPr>
          <a:xfrm>
            <a:off x="304920" y="2209680"/>
            <a:ext cx="2286000" cy="1905120"/>
          </a:xfrm>
          <a:prstGeom prst="wedgeRoundRectCallout">
            <a:avLst>
              <a:gd name="adj1" fmla="val 130208"/>
              <a:gd name="adj2" fmla="val 968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I need a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the end of the verb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Rounded Rectangular Callout 8"/>
          <p:cNvSpPr/>
          <p:nvPr/>
        </p:nvSpPr>
        <p:spPr>
          <a:xfrm>
            <a:off x="6553080" y="2209680"/>
            <a:ext cx="2286000" cy="1752840"/>
          </a:xfrm>
          <a:prstGeom prst="wedgeRoundRectCallout">
            <a:avLst>
              <a:gd name="adj1" fmla="val -116722"/>
              <a:gd name="adj2" fmla="val 1552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should I leave the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f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7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5" name="TextBox 3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those students but also their profess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 forward to the final exam; everyone h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iting vacation plans that start next Mo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TextBox 7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those students but also their profess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oo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rward to the final exam; 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iting vacation plan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t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xt Mo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TextBox 8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only those students but also their profess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look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rward to the final exam; 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citing vacation plan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ta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next Mond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l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8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9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pet store, each iguana, mouse, and gerbil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y to climb the walls of its glass cage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s hover outside like giant predators who 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dy to str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pet store, each iguana, mouse, and gerbil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limb the walls of its glass cage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side like giant predators wh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dy to str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 the pet store, each iguana, mouse, and gerbil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r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limb the walls of its glass cage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uman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side like giant predators who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dy to strik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7" dur="5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3" name="TextBox 3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rone, as well as his cousins, hope that Grand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s her famous brownies and peach pie tha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 with generous scoops of vanilla ice cr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TextBox 7"/>
          <p:cNvSpPr/>
          <p:nvPr/>
        </p:nvSpPr>
        <p:spPr>
          <a:xfrm>
            <a:off x="380880" y="1523880"/>
            <a:ext cx="838224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rone, as well as his cousins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op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Grand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rin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er famous brownies and peach pie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ri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generous scoops of vanilla ice cr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TextBox 8"/>
          <p:cNvSpPr/>
          <p:nvPr/>
        </p:nvSpPr>
        <p:spPr>
          <a:xfrm>
            <a:off x="380880" y="1523880"/>
            <a:ext cx="853452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rone, as well as his cousins,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op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Grandm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ring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er famous brownies and peach pie tha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ri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generous scoops of vanilla ice crea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7" name="TextBox 3"/>
          <p:cNvSpPr/>
          <p:nvPr/>
        </p:nvSpPr>
        <p:spPr>
          <a:xfrm>
            <a:off x="380880" y="152388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the dogs or the cat sleep on the bed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is out; Lorraine always finds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entation in the center of her comfor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TextBox 8"/>
          <p:cNvSpPr/>
          <p:nvPr/>
        </p:nvSpPr>
        <p:spPr>
          <a:xfrm>
            <a:off x="380880" y="15238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the dogs or the c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lee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 the bed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; Lorraine alway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i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entation in the center of her comfor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TextBox 9"/>
          <p:cNvSpPr/>
          <p:nvPr/>
        </p:nvSpPr>
        <p:spPr>
          <a:xfrm>
            <a:off x="380880" y="152388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the dogs or the ca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slee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n the bed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; Lorraine alway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i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dentation in the center of her comfor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lee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5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1" name="TextBox 3"/>
          <p:cNvSpPr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ryl, together with her friends Beatrice and Lavern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s a daily trip for ice cream, for these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 discovered that the calories is worth see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o scoop their servings with his muscular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TextBox 6"/>
          <p:cNvSpPr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ryl, together with her friends Beatrice and Lavern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l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daily trip for ice cream, for these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covered that the calorie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rth see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o scoop their servings with his muscular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TextBox 9"/>
          <p:cNvSpPr/>
          <p:nvPr/>
        </p:nvSpPr>
        <p:spPr>
          <a:xfrm>
            <a:off x="228600" y="1523880"/>
            <a:ext cx="868680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ryl, together with her friends Beatrice and Lavern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la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daily trip for ice cream, for these wo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covered that the calorie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rth see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o scoop their servings with his muscular a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4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5" name="TextBox 3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cissors are sharp, so neither the cousins n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my is allowed to play with them, even whe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ys needs to finish a school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TextBox 7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cissor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arp, so neither the cousins n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m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owed to play with them, even whe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y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nee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finish a school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TextBox 8"/>
          <p:cNvSpPr/>
          <p:nvPr/>
        </p:nvSpPr>
        <p:spPr>
          <a:xfrm>
            <a:off x="380880" y="1600200"/>
            <a:ext cx="8382240" cy="4876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scissor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arp, so neither the cousins n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mm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owed to play with them, even when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oy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e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finish a school projec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9" name="TextBox 3"/>
          <p:cNvSpPr/>
          <p:nvPr/>
        </p:nvSpPr>
        <p:spPr>
          <a:xfrm>
            <a:off x="380880" y="1676520"/>
            <a:ext cx="83822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fork, spoon, and knife are scarred from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posal since Drew refuses to check the dr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e throws the swi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TextBox 7"/>
          <p:cNvSpPr/>
          <p:nvPr/>
        </p:nvSpPr>
        <p:spPr>
          <a:xfrm>
            <a:off x="380880" y="167652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fork, spoon, and knif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carred from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posal since Drew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fu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heck the dr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row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swi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TextBox 8"/>
          <p:cNvSpPr/>
          <p:nvPr/>
        </p:nvSpPr>
        <p:spPr>
          <a:xfrm>
            <a:off x="380880" y="1676520"/>
            <a:ext cx="838224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fork, spoon, and knif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carred from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posal since Drew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fus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heck the dra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hrow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swi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2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TextBox 7"/>
          <p:cNvSpPr/>
          <p:nvPr/>
        </p:nvSpPr>
        <p:spPr>
          <a:xfrm>
            <a:off x="548640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TextBox 6"/>
          <p:cNvSpPr/>
          <p:nvPr/>
        </p:nvSpPr>
        <p:spPr>
          <a:xfrm>
            <a:off x="54864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4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665" name="Rounded Rectangular Callout 4"/>
          <p:cNvSpPr/>
          <p:nvPr/>
        </p:nvSpPr>
        <p:spPr>
          <a:xfrm>
            <a:off x="4800600" y="2362320"/>
            <a:ext cx="3962520" cy="2895480"/>
          </a:xfrm>
          <a:prstGeom prst="wedgeRoundRectCallout">
            <a:avLst>
              <a:gd name="adj1" fmla="val -96148"/>
              <a:gd name="adj2" fmla="val 168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ubject-verb agre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TextBox 3"/>
          <p:cNvSpPr/>
          <p:nvPr/>
        </p:nvSpPr>
        <p:spPr>
          <a:xfrm>
            <a:off x="2286000" y="2895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7" name="Picture 2" descr="squirrel02.jpg"/>
          <p:cNvPicPr/>
          <p:nvPr/>
        </p:nvPicPr>
        <p:blipFill>
          <a:blip r:embed="rId1"/>
          <a:stretch/>
        </p:blipFill>
        <p:spPr>
          <a:xfrm>
            <a:off x="3886200" y="4208400"/>
            <a:ext cx="1522440" cy="2421000"/>
          </a:xfrm>
          <a:prstGeom prst="rect">
            <a:avLst/>
          </a:prstGeom>
          <a:ln w="0">
            <a:noFill/>
          </a:ln>
        </p:spPr>
      </p:pic>
      <p:sp>
        <p:nvSpPr>
          <p:cNvPr id="1668" name="Rounded Rectangular Callout 4"/>
          <p:cNvSpPr/>
          <p:nvPr/>
        </p:nvSpPr>
        <p:spPr>
          <a:xfrm>
            <a:off x="1981080" y="5029200"/>
            <a:ext cx="1371600" cy="1066680"/>
          </a:xfrm>
          <a:prstGeom prst="wedgeRoundRectCallout">
            <a:avLst>
              <a:gd name="adj1" fmla="val 90134"/>
              <a:gd name="adj2" fmla="val -598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kitt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9" name="Picture 5" descr="cat.jpg"/>
          <p:cNvPicPr/>
          <p:nvPr/>
        </p:nvPicPr>
        <p:blipFill>
          <a:blip r:embed="rId2"/>
          <a:stretch/>
        </p:blipFill>
        <p:spPr>
          <a:xfrm>
            <a:off x="5486400" y="4343400"/>
            <a:ext cx="25909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0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6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2701"/>
                            </p:stCondLst>
                            <p:childTnLst>
                              <p:par>
                                <p:cTn id="679" nodeType="afterEffect" fill="hold" presetClass="exit" presetID="1">
                                  <p:stCondLst>
                                    <p:cond delay="1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3701"/>
                            </p:stCondLst>
                            <p:childTnLst>
                              <p:par>
                                <p:cTn id="68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3" dur="500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4201"/>
                            </p:stCondLst>
                            <p:childTnLst>
                              <p:par>
                                <p:cTn id="6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tgrow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5" name="Picture 4" descr="urbangirl.jpg"/>
          <p:cNvPicPr/>
          <p:nvPr/>
        </p:nvPicPr>
        <p:blipFill>
          <a:blip r:embed="rId1"/>
          <a:stretch/>
        </p:blipFill>
        <p:spPr>
          <a:xfrm>
            <a:off x="5638680" y="838080"/>
            <a:ext cx="2724120" cy="4876920"/>
          </a:xfrm>
          <a:prstGeom prst="rect">
            <a:avLst/>
          </a:prstGeom>
          <a:ln w="0">
            <a:noFill/>
          </a:ln>
        </p:spPr>
      </p:pic>
      <p:sp>
        <p:nvSpPr>
          <p:cNvPr id="1546" name="Rounded Rectangular Callout 2"/>
          <p:cNvSpPr/>
          <p:nvPr/>
        </p:nvSpPr>
        <p:spPr>
          <a:xfrm>
            <a:off x="609480" y="2590920"/>
            <a:ext cx="3353040" cy="3504960"/>
          </a:xfrm>
          <a:prstGeom prst="wedgeRoundRectCallout">
            <a:avLst>
              <a:gd name="adj1" fmla="val 121435"/>
              <a:gd name="adj2" fmla="val -4753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maintaining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gre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wee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ubjec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verb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subject-verb agreement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020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9" name="TextBox 3"/>
          <p:cNvSpPr/>
          <p:nvPr/>
        </p:nvSpPr>
        <p:spPr>
          <a:xfrm>
            <a:off x="762120" y="1371600"/>
            <a:ext cx="76197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oods that provide good nutrition is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ten the least tasty; a hamburger and fries,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other hand, satisfy the tongue but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g the art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tisf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TextBox 10"/>
          <p:cNvSpPr/>
          <p:nvPr/>
        </p:nvSpPr>
        <p:spPr>
          <a:xfrm>
            <a:off x="762120" y="1371600"/>
            <a:ext cx="7619760" cy="5334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ood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rov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ood nutriti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ten the least tasty; a hamburger and fries,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other hand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atisf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ngue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g the art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tisf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TextBox 11"/>
          <p:cNvSpPr/>
          <p:nvPr/>
        </p:nvSpPr>
        <p:spPr>
          <a:xfrm>
            <a:off x="762120" y="1371600"/>
            <a:ext cx="7619760" cy="5334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foods tha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rov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ood nutrition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ten the least tasty; a hamburger and fries,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 the other hand,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atisf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tongue bu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og the art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v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tisf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2" name="Picture 17" descr="point.jpg"/>
          <p:cNvPicPr/>
          <p:nvPr/>
        </p:nvPicPr>
        <p:blipFill>
          <a:blip r:embed="rId1"/>
          <a:stretch/>
        </p:blipFill>
        <p:spPr>
          <a:xfrm>
            <a:off x="8077320" y="3886200"/>
            <a:ext cx="744480" cy="2743200"/>
          </a:xfrm>
          <a:prstGeom prst="rect">
            <a:avLst/>
          </a:prstGeom>
          <a:ln w="0">
            <a:noFill/>
          </a:ln>
        </p:spPr>
      </p:pic>
      <p:sp>
        <p:nvSpPr>
          <p:cNvPr id="1553" name="Rounded Rectangular Callout 18"/>
          <p:cNvSpPr/>
          <p:nvPr/>
        </p:nvSpPr>
        <p:spPr>
          <a:xfrm>
            <a:off x="4343400" y="4191120"/>
            <a:ext cx="2209680" cy="1828800"/>
          </a:xfrm>
          <a:prstGeom prst="wedgeRoundRectCallout">
            <a:avLst>
              <a:gd name="adj1" fmla="val 129601"/>
              <a:gd name="adj2" fmla="val -4320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es disagreement happen at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prov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satisf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Rounded Rectangular Callout 19"/>
          <p:cNvSpPr/>
          <p:nvPr/>
        </p:nvSpPr>
        <p:spPr>
          <a:xfrm>
            <a:off x="4343400" y="4191120"/>
            <a:ext cx="2209680" cy="1828800"/>
          </a:xfrm>
          <a:prstGeom prst="wedgeRoundRectCallout">
            <a:avLst>
              <a:gd name="adj1" fmla="val 129601"/>
              <a:gd name="adj2" fmla="val -4320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eeds to be the plura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which opt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B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marL="465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reement in a Nutshell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6" name="Text Box 5"/>
          <p:cNvSpPr/>
          <p:nvPr/>
        </p:nvSpPr>
        <p:spPr>
          <a:xfrm>
            <a:off x="3657600" y="16002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lepha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rumpet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or a pean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Text Box 6"/>
          <p:cNvSpPr/>
          <p:nvPr/>
        </p:nvSpPr>
        <p:spPr>
          <a:xfrm>
            <a:off x="3657600" y="403848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leph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trumpe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for peanu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Text Box 13"/>
          <p:cNvSpPr/>
          <p:nvPr/>
        </p:nvSpPr>
        <p:spPr>
          <a:xfrm>
            <a:off x="3657600" y="28954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eleph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ingular subjec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trumpe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ingular ve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Text Box 14"/>
          <p:cNvSpPr/>
          <p:nvPr/>
        </p:nvSpPr>
        <p:spPr>
          <a:xfrm>
            <a:off x="3657600" y="5410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elephant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plural subject</a:t>
            </a:r>
            <a:br>
              <a:rPr sz="2400"/>
            </a:b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trump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plural ve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0" name="Picture 12" descr="elephant.jpg"/>
          <p:cNvPicPr/>
          <p:nvPr/>
        </p:nvPicPr>
        <p:blipFill>
          <a:blip r:embed="rId1"/>
          <a:stretch/>
        </p:blipFill>
        <p:spPr>
          <a:xfrm>
            <a:off x="1143000" y="1676520"/>
            <a:ext cx="1909800" cy="2401920"/>
          </a:xfrm>
          <a:prstGeom prst="rect">
            <a:avLst/>
          </a:prstGeom>
          <a:ln w="0">
            <a:noFill/>
          </a:ln>
        </p:spPr>
      </p:pic>
      <p:pic>
        <p:nvPicPr>
          <p:cNvPr id="1561" name="Picture 13" descr="elephant.jpg"/>
          <p:cNvPicPr/>
          <p:nvPr/>
        </p:nvPicPr>
        <p:blipFill>
          <a:blip r:embed="rId2"/>
          <a:stretch/>
        </p:blipFill>
        <p:spPr>
          <a:xfrm>
            <a:off x="533520" y="4495680"/>
            <a:ext cx="1528560" cy="1922760"/>
          </a:xfrm>
          <a:prstGeom prst="rect">
            <a:avLst/>
          </a:prstGeom>
          <a:ln w="0">
            <a:noFill/>
          </a:ln>
        </p:spPr>
      </p:pic>
      <p:pic>
        <p:nvPicPr>
          <p:cNvPr id="1562" name="Picture 14" descr="elephant.jpg"/>
          <p:cNvPicPr/>
          <p:nvPr/>
        </p:nvPicPr>
        <p:blipFill>
          <a:blip r:embed="rId3"/>
          <a:stretch/>
        </p:blipFill>
        <p:spPr>
          <a:xfrm>
            <a:off x="2133720" y="4495680"/>
            <a:ext cx="152856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lepha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401"/>
                            </p:stCondLst>
                            <p:childTnLst>
                              <p:par>
                                <p:cTn id="1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lephan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1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3" name="Picture 3" descr="lookat.jpg"/>
          <p:cNvPicPr/>
          <p:nvPr/>
        </p:nvPicPr>
        <p:blipFill>
          <a:blip r:embed="rId1"/>
          <a:stretch/>
        </p:blipFill>
        <p:spPr>
          <a:xfrm>
            <a:off x="4876920" y="1600200"/>
            <a:ext cx="3705120" cy="4876920"/>
          </a:xfrm>
          <a:prstGeom prst="rect">
            <a:avLst/>
          </a:prstGeom>
          <a:ln w="0">
            <a:noFill/>
          </a:ln>
        </p:spPr>
      </p:pic>
      <p:sp>
        <p:nvSpPr>
          <p:cNvPr id="1564" name="Rounded Rectangular Callout 2"/>
          <p:cNvSpPr/>
          <p:nvPr/>
        </p:nvSpPr>
        <p:spPr>
          <a:xfrm>
            <a:off x="533520" y="3657600"/>
            <a:ext cx="3581280" cy="2438280"/>
          </a:xfrm>
          <a:prstGeom prst="wedgeRoundRectCallout">
            <a:avLst>
              <a:gd name="adj1" fmla="val 117833"/>
              <a:gd name="adj2" fmla="val -5766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resent t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in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bs end in the suffix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lural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bs do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380880" y="350640"/>
            <a:ext cx="8382240" cy="1935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wo (or more) singular noun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make a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plural</a:t>
            </a:r>
            <a:r>
              <a:rPr b="0" lang="en-US" sz="32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ubjec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7391520" cy="1371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lvl="1" marL="347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chicken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wing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pork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ri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untouched on Ruth’s plat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67" name="Picture 3" descr="strut.jpg"/>
          <p:cNvPicPr/>
          <p:nvPr/>
        </p:nvPicPr>
        <p:blipFill>
          <a:blip r:embed="rId1"/>
          <a:stretch/>
        </p:blipFill>
        <p:spPr>
          <a:xfrm>
            <a:off x="1752480" y="3513240"/>
            <a:ext cx="1143000" cy="3344760"/>
          </a:xfrm>
          <a:prstGeom prst="rect">
            <a:avLst/>
          </a:prstGeom>
          <a:ln w="0">
            <a:noFill/>
          </a:ln>
        </p:spPr>
      </p:pic>
      <p:sp>
        <p:nvSpPr>
          <p:cNvPr id="1568" name="Rounded Rectangular Callout 4"/>
          <p:cNvSpPr/>
          <p:nvPr/>
        </p:nvSpPr>
        <p:spPr>
          <a:xfrm>
            <a:off x="3886200" y="4495680"/>
            <a:ext cx="3657600" cy="1905120"/>
          </a:xfrm>
          <a:prstGeom prst="wedgeRoundRectCallout">
            <a:avLst>
              <a:gd name="adj1" fmla="val -92282"/>
              <a:gd name="adj2" fmla="val -71888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there’s no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the end of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ou know it’s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lu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3431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931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1027"/>
          <p:cNvSpPr/>
          <p:nvPr/>
        </p:nvSpPr>
        <p:spPr>
          <a:xfrm>
            <a:off x="685800" y="2895480"/>
            <a:ext cx="7772400" cy="10447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cken wing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rk rib sit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ntouched on Ruth’s pl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468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en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ach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or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every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precedes two (or more) singular nouns joined by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, you have a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singula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subject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1" name="Picture 3" descr="leaning.jpg"/>
          <p:cNvPicPr/>
          <p:nvPr/>
        </p:nvPicPr>
        <p:blipFill>
          <a:blip r:embed="rId1"/>
          <a:stretch/>
        </p:blipFill>
        <p:spPr>
          <a:xfrm>
            <a:off x="1219320" y="3825720"/>
            <a:ext cx="1143000" cy="3032280"/>
          </a:xfrm>
          <a:prstGeom prst="rect">
            <a:avLst/>
          </a:prstGeom>
          <a:ln w="0">
            <a:noFill/>
          </a:ln>
        </p:spPr>
      </p:pic>
      <p:sp>
        <p:nvSpPr>
          <p:cNvPr id="1572" name="Rounded Rectangular Callout 4"/>
          <p:cNvSpPr/>
          <p:nvPr/>
        </p:nvSpPr>
        <p:spPr>
          <a:xfrm>
            <a:off x="5257800" y="4267080"/>
            <a:ext cx="3200400" cy="1905120"/>
          </a:xfrm>
          <a:prstGeom prst="wedgeRoundRectCallout">
            <a:avLst>
              <a:gd name="adj1" fmla="val -148763"/>
              <a:gd name="adj2" fmla="val -4468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ther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the end of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ou know it’s a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ing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641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141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1997 - 2014 by Robin L. Simmons. All Rights Reserved.</dc:description>
  <cp:keywords>subjects verbs subject-verb agreement grammar Grammar Bytes! Robin L. Simmons</cp:keywords>
  <dc:language>en-US</dc:language>
  <cp:lastModifiedBy>Nadia Williams</cp:lastModifiedBy>
  <dcterms:modified xsi:type="dcterms:W3CDTF">2014-03-12T14:35:00Z</dcterms:modified>
  <cp:revision>358</cp:revision>
  <dc:subject/>
  <dc:title>Subject-Verb Agre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oReflect">
    <vt:bool>0</vt:bool>
  </property>
  <property fmtid="{D5CDD505-2E9C-101B-9397-08002B2CF9AE}" pid="3" name="KeepGraph">
    <vt:bool>0</vt:bool>
  </property>
  <property fmtid="{D5CDD505-2E9C-101B-9397-08002B2CF9AE}" pid="4" name="ShowPercent">
    <vt:bool>1</vt:bool>
  </property>
  <property fmtid="{D5CDD505-2E9C-101B-9397-08002B2CF9AE}" pid="5" name="ShowTimer">
    <vt:bool>1</vt:bool>
  </property>
</Properties>
</file>